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D17-96CE-4882-9D3A-7B412D7C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A5F-6E40-4737-965D-8A88E74E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14A-CB50-4F7E-B528-E15F8928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71B-F347-4F6C-84DF-4CEA8E0C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7478-4FC4-444F-92E3-23EE3508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3FD7-EC91-48AE-9676-7D657659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613A-5AB5-4A05-82A8-88A51C3B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C76A-4572-4CDE-9006-DDFC53A7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4EF9-9646-43EC-9809-D6DA1E4F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658C-B493-44D1-97A9-F0290F36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4BF9-30BB-4864-A029-F110491F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7A13-EFDF-4B2F-A193-F37CC94E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7B6B-61EB-43BA-B2E0-D2E799A3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AFD2-5CF5-4BE5-960E-721F414C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D052-1CEE-46EF-A99A-4B56A250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13F6-6588-4BFE-A221-F38C7DEF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280A-52FA-4558-96E4-6F1D9B8E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6675-348E-4DA3-8215-01E4E782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028-DE5F-4456-893F-BAEA79A9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30F4-0897-4413-9504-378EAABA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65D6-7C7B-45B7-AC64-CA56DE03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DA8-0AA6-4197-A89D-88F1645C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61A1-DBE8-46E3-96E4-5EEEB7F5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41EE-4575-4EF3-A5EA-A6492554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7577-4621-498E-B589-FA3D2EA026C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C125-74DE-4408-8112-B900FFE7E4F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9000"/>
            <a:ext cx="6585120" cy="1795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екторная графика.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исуем солнышко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71280" y="4051080"/>
            <a:ext cx="6769080" cy="21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егодня вы научитесь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исовать во встроенном графическом редакторе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Wo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OpenOffice.org Wri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вать и редактировать векторные рисун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пользовать градиентные залив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18900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рофимов П.В. 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школа № 8 г. Старая Р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B0C5-49B5-4557-A179-8BC76B8466F2}" type="slidenum">
              <a:t>1</a:t>
            </a:fld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рнёмся к улыбке - закрасьте её, измените размер и переместите на мордочку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27640" y="1873080"/>
            <a:ext cx="4147920" cy="40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90F-038E-4758-9F75-1FC43B9640D5}" type="slidenum">
              <a:t>10</a:t>
            </a:fld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771640" y="1785960"/>
            <a:ext cx="6372360" cy="40370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273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фигуры - Линии -   Полили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щелчками нарисуйте корону вокруг солнышк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Порядок -   На задний пла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7A05-85AF-4891-A8DA-53DBF3F10B4D}" type="slidenum">
              <a:t>11</a:t>
            </a:fld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3529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кройте список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Цвет заливк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выбер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Способы заливки…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раскрывшемся окне установите опции согласно рисунку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24360" y="2133720"/>
            <a:ext cx="5219640" cy="400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CBA-9EFD-47F8-8E93-BD2671BBB6B1}" type="slidenum">
              <a:t>12</a:t>
            </a:fld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632720" cy="68738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-360" y="3068280"/>
            <a:ext cx="3313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берите для короны жёлтый цвет ли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т что должно получитьс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4C8-B69B-4308-9F03-A199DE98E236}" type="slidenum">
              <a:t>13</a:t>
            </a:fld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84692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ля тех, кто справился с предыдущим заданием рекомендуем самостоятельно дополнить рисун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36360" y="1325520"/>
            <a:ext cx="9144000" cy="561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2004-C1AE-413B-A1F2-CB4245B79B4F}" type="slidenum">
              <a:t>14</a:t>
            </a:fld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полнение упражн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ключ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панель рисова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одним из следующих способов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ид - Панели инструментов - 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контекстном меню любой панели (оно вызывается щелчком правой кнопки мыши) выбер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на панели инструмент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любом случае появится (или пропадёт, если она была включена) панель рисования. Обычно она располагается в нижней части окна. С ней мы сегодня и работа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5EA4-131B-426B-A6A9-0F8EF3432320}" type="slidenum">
              <a:t>2</a:t>
            </a:fld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. Залив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рисуйте жёлтый кру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359892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Ова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нарисуйте круг диаметром около 4-5 с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кройте списо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Цвет залив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и выберите жёлтый цвет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писк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Цвет лин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выберит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Нет лин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40360" y="2637000"/>
            <a:ext cx="5003640" cy="166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F2B7-D216-47DB-A921-FEA3745D833D}" type="slidenum">
              <a:t>3</a:t>
            </a:fld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Группиров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Рисуем глаз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43214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образите рядом с жёлтым кругом белый эллипс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исуйте рядом ещё один эллипс поменьше и залейте его чёрным цветом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чёрный эллипс на белый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делите чёрный эллипс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держивая нажатой клавиш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Shift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щёлкните по белому эллипсу - теперь выделены сразу оба эллипс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211640" y="2649600"/>
            <a:ext cx="4932360" cy="164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0BE-3418-46A9-82D6-CF6CC1FE6BBE}" type="slidenum">
              <a:t>4</a:t>
            </a:fld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Группиров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Рисуем гла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280" y="2565000"/>
            <a:ext cx="3598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  Группирова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глаз на мордочк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помощью клавиш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Ctr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копируйте глаз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6720" y="2060640"/>
            <a:ext cx="3108600" cy="31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AF3-BF02-482B-97A3-5EF65007FA66}" type="slidenum">
              <a:t>5</a:t>
            </a:fld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Дуга. Изменение форм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исуем носик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37418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фигуры - Основные фигуры -   Дуг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исуйте дуг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ватите один из жёлтых ромбиков-маркеров и разверните дугу примерно на три четверти круг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952720" y="2637000"/>
            <a:ext cx="6156360" cy="231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F7F-48BE-4078-847F-E1B021593EC5}" type="slidenum">
              <a:t>6</a:t>
            </a:fld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Дуга. Изменение форм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исуем носик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81492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ватив за угловой белый маркер, измените размер и форму дуг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Свободное вращени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за один из зелёных круглых маркеров разверните дуг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носик на мордочку, если требуется, залейте его жёлтым цветом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2008080"/>
            <a:ext cx="3994200" cy="382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BBC-68E9-4D62-A7F6-272AE42BEF35}" type="slidenum">
              <a:t>7</a:t>
            </a:fld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5. Рисование и изменение линий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исуем улыбку: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828800"/>
            <a:ext cx="828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фигуры - Линии -   Крива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щелчками изобразите улыбку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998800"/>
            <a:ext cx="9144000" cy="32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3E48-6CAF-4C7D-9C58-82BA8747A55D}" type="slidenum">
              <a:t>8</a:t>
            </a:fld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514836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копируйте улыбку и выделите одну из них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  Начать изменение узло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в местах, где вы щёлкали мышкой, появились маленькие квадратики-марке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и маркеры можно перемещать, и за ними будет следовать форма лини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00760" y="768240"/>
            <a:ext cx="3747960" cy="2081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8360" y="3787920"/>
            <a:ext cx="4095720" cy="2520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003640" y="4076640"/>
            <a:ext cx="3621240" cy="21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1AD-0943-4B4C-8587-8C0DA37E0864}" type="slidenum">
              <a:t>9</a:t>
            </a:fld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0:41:12Z</dcterms:created>
  <dc:creator>Trofimov</dc:creator>
  <dc:description/>
  <dc:language>en-US</dc:language>
  <cp:lastModifiedBy>Trofimov</cp:lastModifiedBy>
  <dcterms:modified xsi:type="dcterms:W3CDTF">2007-06-10T14:34:19Z</dcterms:modified>
  <cp:revision>15</cp:revision>
  <dc:subject/>
  <dc:title>Векторная графика </dc:title>
</cp:coreProperties>
</file>